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C31-5B25-46FD-84D5-464861A7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507-4E3F-427E-B059-E5ED9E90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AFC-DB3F-4F00-B51E-E6916BA0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617-D356-43F2-B796-997C80B2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9B09-6F2E-43B0-B600-CE4C9D98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6050-D3EE-4199-8A27-CE988A3F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FCCE-5F28-4A5B-BA27-A19C1A42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8EBD-4654-4091-A690-669B98B1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2171-F387-4CEF-81A6-ABACE095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91ED-1511-44F9-A1BD-3D0BA6CC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FA3A-5923-4204-8518-2C997AD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A4A-1FDA-461D-B295-0E5D2E9A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FAF4-2653-4992-BBC0-249124E7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1FEA-6CE2-4B0D-A670-ABCAE738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02C3-4B25-421F-9252-328B0C9D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8597-53BF-4965-8148-949DA773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2A6E-987C-4136-9218-28F3D6B0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445-F75A-4E4D-BD18-1D0EA232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C10-82E5-464F-BCBC-3AA4AC21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56B-2F8B-4FFF-810A-4C19357A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3BE-8956-4384-8A13-DACBDF0C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648-877E-4D2D-8E00-48438BC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B06-2018-4FB6-89F7-CF88CB72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468-63B4-4318-B29A-04F8A74B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C9ED-548F-4BA2-9B2D-DB94168518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A229-4DB0-4879-B989-5DE130B9F8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95320" y="2590920"/>
            <a:ext cx="342900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in Rivers Unified School Distri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8, 200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76520" y="1295280"/>
            <a:ext cx="6400800" cy="1295280"/>
            <a:chOff x="1676520" y="1295280"/>
            <a:chExt cx="6400800" cy="1295280"/>
          </a:xfrm>
        </p:grpSpPr>
        <p:sp>
          <p:nvSpPr>
            <p:cNvPr id="97" name=""/>
            <p:cNvSpPr/>
            <p:nvPr/>
          </p:nvSpPr>
          <p:spPr>
            <a:xfrm>
              <a:off x="1676520" y="1295280"/>
              <a:ext cx="6400800" cy="12952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rcRect l="1998" t="20670" r="47003" b="70006"/>
            <a:stretch/>
          </p:blipFill>
          <p:spPr>
            <a:xfrm>
              <a:off x="1905120" y="1523880"/>
              <a:ext cx="5867640" cy="81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ficiency Over Stand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11999" r="23752" b="15211"/>
          <a:stretch/>
        </p:blipFill>
        <p:spPr>
          <a:xfrm>
            <a:off x="762120" y="2311560"/>
            <a:ext cx="76197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swer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23752" t="10000" r="21877" b="30001"/>
          <a:stretch/>
        </p:blipFill>
        <p:spPr>
          <a:xfrm>
            <a:off x="762120" y="228600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swer Distribution 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7502" t="13000" r="33126" b="47003"/>
          <a:stretch/>
        </p:blipFill>
        <p:spPr>
          <a:xfrm>
            <a:off x="762120" y="2362320"/>
            <a:ext cx="83818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Profi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4375" t="17998" r="16876" b="20336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29400" y="2819520"/>
            <a:ext cx="16002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3505320"/>
            <a:ext cx="685800" cy="152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rget Are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4672" t="16519" r="4672" b="12461"/>
          <a:stretch/>
        </p:blipFill>
        <p:spPr>
          <a:xfrm>
            <a:off x="762120" y="2286000"/>
            <a:ext cx="7391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998" t="15334" r="7001" b="12669"/>
          <a:stretch/>
        </p:blipFill>
        <p:spPr>
          <a:xfrm>
            <a:off x="762120" y="2286000"/>
            <a:ext cx="670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cent Proficient by Subgrou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4001" t="14666" r="4001" b="12002"/>
          <a:stretch/>
        </p:blipFill>
        <p:spPr>
          <a:xfrm>
            <a:off x="762120" y="228600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formance Explor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52084" r="0" b="7294"/>
          <a:stretch/>
        </p:blipFill>
        <p:spPr>
          <a:xfrm>
            <a:off x="762120" y="3200400"/>
            <a:ext cx="8381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ble Tal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ight coaches use Measur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room teach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nistrato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ime to Explo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ence the Measures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the functions of the data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e the Measures data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view possible repo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Measures in small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Measures Surv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es Surv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easures Survey will be used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teachers’ data analysis skill s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ver training p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uide Measures professional develo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552456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715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715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62320" y="2362320"/>
            <a:ext cx="426708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by Stud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-623" t="11999" r="25624" b="18003"/>
          <a:stretch/>
        </p:blipFill>
        <p:spPr>
          <a:xfrm>
            <a:off x="76212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tem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30001" r="25004" b="6996"/>
          <a:stretch/>
        </p:blipFill>
        <p:spPr>
          <a:xfrm>
            <a:off x="76212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ver Stand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30001" r="0" b="5999"/>
          <a:stretch/>
        </p:blipFill>
        <p:spPr>
          <a:xfrm>
            <a:off x="76212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 Pope</cp:lastModifiedBy>
  <dcterms:modified xsi:type="dcterms:W3CDTF">2009-05-07T06:06:3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